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BD47-E289-4CFB-827B-51B4EE1A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CA3-D4BD-4BAD-B4BB-A7543559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27DE-E066-4B02-8043-B6BF994E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03E4-3D8C-4566-9FD9-A864FF8E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249F-FC95-453A-9EFD-4E497A84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E8D7-F46B-4F1E-819A-AD78033A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F834-3E87-47D3-932E-5EB821A1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9831-3086-4727-91F9-4CE4697E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DFD0-A3D0-42D0-8B39-7139407F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8F81-2147-4FFB-987C-7AF10BF4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E6DD-5CA5-4C8F-8343-720C61B3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1074-DF15-4431-9F88-F06F223F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9F52-2503-4143-813C-8BCEE398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2DDE-6569-4805-A5C8-8E822431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B177-BA4F-4F0A-B3BF-62B2FBC2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E360-3F2A-4CF4-BB2F-01DC6CC7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D0A2-8A53-41F2-AED8-453FFD67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5E49A-05E3-4532-8986-04B8C5BD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27955-6F0D-4F40-82D0-94325060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B10F4-A642-4759-8613-8E876C1B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13747-534D-49FD-B090-C6B0F566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45D9B-E7EA-4FA2-BA2F-F66DF6E5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69AA-F4EB-4A33-A460-08DE36D4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C1C28-B8DB-4917-9FFF-49CE46F2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20225-5CFB-467D-A6AF-983EAA3A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B1F96-5608-435D-8867-B8EBA2F6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BFCEE-80CD-4899-AA5D-516FF498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E207B-CDE9-482D-A453-DFDBDA0A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44F72-79F4-4FFD-A099-7D7E743B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A8B67-E5FA-426A-95AC-1E188FA7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C3B3B-B900-4753-A6A0-5067878A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C08EC-7A6F-46D9-AE88-73AB34C5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7532B-3304-44F5-A67A-0BB7DEA4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11EA-6C8E-4937-AEB7-D33CE958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38DE6-BFBA-46C9-9B37-6622B3E9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0605D-7B03-4B23-9C1E-CCE48BD4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09271-B00B-4301-B7A0-CF476171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C25BF-0A3E-476F-9FE1-1CCDF20B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AF67B-3A5E-4BD9-B865-7EE5905E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092E3-AAC0-40AE-89DE-82DB2EB8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8D46C-DAD6-4103-A813-26CFDA33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21817-19C7-454C-8AB8-26344733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D86FF-C97F-44C9-A5A4-33D5881F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FF387-A6EF-4C79-833C-C13BA03A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2C45-9A88-4A03-946B-F001F31F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14571-B8AE-4F9E-B349-E9B0CAAA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803D2-EC45-47F8-8CBF-451B2E42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EA2FC-E869-49C6-A411-0C66ECF9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A1447-E75D-47EC-9842-3377E758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024BA-5728-40A0-B4E5-B1CD9A7D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164CA-546E-46F1-83A3-5635CB6E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79633-5288-4FC9-A987-4356619F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35282-B614-4732-912F-DAE364D4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853D9-BA7E-4277-92BA-511B7843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A241E-A6B1-4F29-8D0F-456D533F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61B-4109-4C89-811C-944A5077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3FBEC-3099-4580-946C-389F791E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BA223-6D6F-43A2-9FE3-D1C987B9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FEAAD-51F6-4E50-B575-CF72523A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A6BD8-4824-4E93-9CBC-719347FC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FC4F7-6C9E-4BDD-B9B3-247841D1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4F972-38FA-4505-A7FC-87E84F86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EBF0E-5A53-4236-87D2-74E2DDC3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F5231-3911-40C4-A055-45663966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764B5-3576-41B4-966C-80DBADC9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F09D8-F6BE-4811-85C1-757A5C23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E3D-5E28-4FB6-8D20-F7CDDA79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FBFF8-B1AB-4C31-A69C-4BD4378D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5D6F3-D92A-4B1F-A6B9-DAF39C79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6C1A3-9522-4C30-93C6-7D6BB4E4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90221-04B2-4798-A761-E80CDA3F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813EE-7957-4E45-A671-EF347DCC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4046C-7758-482A-A234-CD978B6A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2DAE9-B3FD-482E-8F65-E76A89F4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39199-6E56-4A6B-81F0-D95F2FC3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9C068-E24C-45B5-8AB5-063882E8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9CF75-C72A-4BEE-8D7B-9D52F42B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C9F-870C-40CF-B800-38344956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2723A-3C51-4006-B7FE-289F7487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31CDB-ECD2-43B1-96A7-BF256282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8FA46-8839-4AB9-937E-3FA6BFF9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2D471-2706-474F-B28A-593A22FC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072F2-8C57-47FC-B1CC-B67A72B3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E3B50-7B2C-4E4E-9D77-5D009A98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6C906-FC57-4A0E-8531-6E7773EB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DA0BC-FB19-4D48-8BB3-0FD4E66A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C255C-FD62-4140-AB53-7B922F36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35D32-8CC3-4B07-B5F2-83B1F3A3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A186-96A9-4C99-BF2D-A4F6FDE5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604A7-81F0-47F9-9288-83548C23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232D7-4AEE-4486-969E-0CDF3B77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FE169-BFAD-4058-8ACF-9ABA2083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5F0B6-36C2-4959-866D-70C33F99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AD831-E7EA-4664-B1EC-B0609C92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4B977-8C09-4EDD-A1ED-546801A1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EF778-B863-4F97-A6FB-90D7FB4E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9CA9-E8C3-4174-8AEC-A6C049B305F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EE80-160D-428E-8BC6-2F83BE4FB60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7B5C-7850-4649-B6AE-4C2F3262008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FEFB-E48F-4195-8BCC-D40B18A0CE8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92CF-D6FE-4F4D-9698-21ECAA848FD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C032-9F92-4FB7-9975-1E29E444E18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F3D2-4D9F-4EDC-BBDD-A82CEBD6381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596B-ABB8-455B-AC63-EEC6265F1B8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9217080" cy="2114640"/>
          </a:xfrm>
          <a:prstGeom prst="rect">
            <a:avLst/>
          </a:prstGeom>
          <a:ln w="0">
            <a:noFill/>
          </a:ln>
        </p:spPr>
      </p:pic>
      <p:sp>
        <p:nvSpPr>
          <p:cNvPr id="371" name="Подзаголовок 2"/>
          <p:cNvSpPr/>
          <p:nvPr/>
        </p:nvSpPr>
        <p:spPr>
          <a:xfrm>
            <a:off x="4929120" y="3286080"/>
            <a:ext cx="42148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арпова Окса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ыкова Ларис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пкова Юлия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Шаманаева Любовь Хали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одзаголовок 2"/>
          <p:cNvSpPr/>
          <p:nvPr/>
        </p:nvSpPr>
        <p:spPr>
          <a:xfrm>
            <a:off x="2357280" y="6286680"/>
            <a:ext cx="4214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5 ноябр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928800" y="1429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ая научно-практическая 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ффективные механизмы повышения образовательных результатов обучающих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6"/>
          <p:cNvSpPr/>
          <p:nvPr/>
        </p:nvSpPr>
        <p:spPr>
          <a:xfrm>
            <a:off x="5000760" y="4714920"/>
            <a:ext cx="3214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Школа №2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Губаха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9968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сороконожки 40 ножек. К зиме она прикупила 6 пар сапожек. Все равно 10 ножек остались без сапожек. Сколько у сороконожки было пар старых сапожек до того, как она купила новы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рифметический способ реш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 • 2 = 12 ног в нов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0 — 12 = 28 ног босые и в старых сапог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8 — 10 = 18 ног в стар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8 : 2 = 9 пар старых сапог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20-(6+5)=9 (пар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9 пар старых сапожек было у сороконож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о того, как она купила нов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грамма краткосрочного кур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о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теллектуальному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 направл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шение нестандартных задач по математике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0 часов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428760" y="11430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4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7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85480" y="164304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Задачи курса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ирование общеинтеллектуальных умени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углубление и расширение знаний учащихся по математик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создание условий для повышения эффективности подготовки выпускников начальной школы к ВП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и развитие логического мышлен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развитие внимание, памят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положительной мотивации к учен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умение работать в групп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298440" y="85680"/>
            <a:ext cx="83948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0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2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7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3571920" y="600084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олилиния 45"/>
          <p:cNvSpPr/>
          <p:nvPr/>
        </p:nvSpPr>
        <p:spPr>
          <a:xfrm>
            <a:off x="1297080" y="1859040"/>
            <a:ext cx="6159240" cy="3836880"/>
          </a:xfrm>
          <a:prstGeom prst="pie">
            <a:avLst/>
          </a:prstGeom>
          <a:solidFill>
            <a:srgbClr val="ffffff"/>
          </a:solidFill>
          <a:ln w="5508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6"/>
          <p:cNvSpPr/>
          <p:nvPr/>
        </p:nvSpPr>
        <p:spPr>
          <a:xfrm>
            <a:off x="5143680" y="1214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ороконожки 40 н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Прямая со стрелкой 48"/>
          <p:cNvCxnSpPr/>
          <p:nvPr/>
        </p:nvCxnSpPr>
        <p:spPr>
          <a:xfrm flipH="1">
            <a:off x="5928840" y="1714320"/>
            <a:ext cx="85824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8"/>
          <p:cNvSpPr/>
          <p:nvPr/>
        </p:nvSpPr>
        <p:spPr>
          <a:xfrm>
            <a:off x="357120" y="135720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зиме она прикупила 6 пар сап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6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0"/>
          <p:cNvSpPr/>
          <p:nvPr/>
        </p:nvSpPr>
        <p:spPr>
          <a:xfrm>
            <a:off x="357120" y="1285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7" name="Группа 68"/>
          <p:cNvGrpSpPr/>
          <p:nvPr/>
        </p:nvGrpSpPr>
        <p:grpSpPr>
          <a:xfrm>
            <a:off x="4357800" y="1214280"/>
            <a:ext cx="4786200" cy="1500840"/>
            <a:chOff x="4357800" y="1214280"/>
            <a:chExt cx="4786200" cy="1500840"/>
          </a:xfrm>
        </p:grpSpPr>
        <p:sp>
          <p:nvSpPr>
            <p:cNvPr id="668" name="TextBox 55"/>
            <p:cNvSpPr/>
            <p:nvPr/>
          </p:nvSpPr>
          <p:spPr>
            <a:xfrm>
              <a:off x="4357800" y="121428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 ножек остались без сапож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Прямая со стрелкой 56"/>
            <p:cNvCxnSpPr/>
            <p:nvPr/>
          </p:nvCxnSpPr>
          <p:spPr>
            <a:xfrm flipH="1">
              <a:off x="6572160" y="1785960"/>
              <a:ext cx="643320" cy="9295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Прямая со стрелкой 56"/>
          <p:cNvCxnSpPr>
            <a:stCxn id="722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78552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00"/>
                </a:solidFill>
                <a:latin typeface="Lucida Sans Unicode"/>
              </a:rPr>
              <a:t>Методы обучения и формы занят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ловесны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глядные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рактически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сследовательск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дущим методом является исследовательский. Организаторами исследований могут, кроме учителя, становиться де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2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Прямая со стрелкой 56"/>
          <p:cNvCxnSpPr>
            <a:stCxn id="776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TextBox 59"/>
          <p:cNvSpPr/>
          <p:nvPr/>
        </p:nvSpPr>
        <p:spPr>
          <a:xfrm>
            <a:off x="3357720" y="59292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шиеся ножки в старых сапож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3" name="Прямая со стрелкой 56"/>
          <p:cNvCxnSpPr>
            <a:stCxn id="832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TextBox 59"/>
          <p:cNvSpPr/>
          <p:nvPr/>
        </p:nvSpPr>
        <p:spPr>
          <a:xfrm>
            <a:off x="1500120" y="58579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у сороконожки бы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арых сапож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6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4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7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8" name="Прямая со стрелкой 56"/>
          <p:cNvCxnSpPr>
            <a:stCxn id="897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9" name="TextBox 59"/>
          <p:cNvSpPr/>
          <p:nvPr/>
        </p:nvSpPr>
        <p:spPr>
          <a:xfrm>
            <a:off x="5143680" y="5786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пар старых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0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67"/>
          <p:cNvSpPr/>
          <p:nvPr/>
        </p:nvSpPr>
        <p:spPr>
          <a:xfrm>
            <a:off x="3714840" y="62118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. 5 класс (по программе 4 клас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9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96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. 4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3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82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6" name=""/>
          <p:cNvGraphicFramePr/>
          <p:nvPr/>
        </p:nvGraphicFramePr>
        <p:xfrm>
          <a:off x="457200" y="1481040"/>
          <a:ext cx="8258040" cy="3233880"/>
        </p:xfrm>
        <a:graphic>
          <a:graphicData uri="http://schemas.openxmlformats.org/drawingml/2006/table">
            <a:tbl>
              <a:tblPr/>
              <a:tblGrid>
                <a:gridCol w="2328840"/>
                <a:gridCol w="1976400"/>
                <a:gridCol w="1976400"/>
                <a:gridCol w="1976400"/>
              </a:tblGrid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,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480680"/>
            <a:ext cx="8543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Личност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удут сформированы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ебно­познавательный интерес к новому учебному материалу и способам решения новой задач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ация на понимание причин успеха в учебной деятельности, в том числе на самоанализ и самоконтроль результата, на анализ соответствия результатов требованиям конкретной задачи, на понимание оценок учителе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пособность к оценке свое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егуля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инимать и сохранять учебную задач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итывать выделенные учителем ориентиры действия в новом учебном материале в сотрудничестве с учителем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ланировать свои действия в соответствии с поставленной задачей и условиями её реализации, в том числе во внутреннем план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итоговый и пошаговый контроль по результат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наватель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ироваться на разнообразие способов решения задач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новам смыслового восприятия текстов, выделять существенную информацию из сообщений разных видов (в первую очередь текстов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анализ объектов с выделением существенных и несущественных признак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ладеть рядом общих приёмов решения задач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оммуника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улировать собственное мнение и позиц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давать вопрос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457200" y="1719360"/>
          <a:ext cx="8258040" cy="3520800"/>
        </p:xfrm>
        <a:graphic>
          <a:graphicData uri="http://schemas.openxmlformats.org/drawingml/2006/table">
            <a:tbl>
              <a:tblPr/>
              <a:tblGrid>
                <a:gridCol w="473040"/>
                <a:gridCol w="6927840"/>
                <a:gridCol w="85716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разде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курса. Решение простейши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 метод решения задач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фический метод решения 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упорядоченного пере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тичный мет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бличный спосо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гра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е занятие.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6374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7T09:06:39Z</dcterms:created>
  <dc:creator>Buch-02</dc:creator>
  <dc:description/>
  <dc:language>en-US</dc:language>
  <cp:lastModifiedBy>Buch-02</cp:lastModifiedBy>
  <dcterms:modified xsi:type="dcterms:W3CDTF">2021-11-18T10:53:26Z</dcterms:modified>
  <cp:revision>46</cp:revision>
  <dc:subject/>
  <dc:title>Тема выступления</dc:title>
</cp:coreProperties>
</file>